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EE01-7E97-42D7-8458-82462F30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A894-5295-4AC6-B32A-23907264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3616-FB84-48E6-8165-F608E19C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9CC0-5169-42C6-BEE2-8B400152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CA5F-631C-450F-916A-D267B41A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1003-9128-47AB-BF38-C5A9EBAE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A5B2-E014-48D2-B953-5B8D6238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D809-9C35-44B8-8508-CFDE4440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F8A6-682D-444F-B942-A9D782E5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D28B-2053-4E9E-AA67-6AC58FEF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7ACB-6B44-48C2-A771-6F713B3E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366B-C0CE-4080-A27A-A59C66B7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249C-0D86-43EC-A168-2FEB93D4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152D-51D7-41E1-93C9-2593A075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EE94-FFD5-4933-BF6E-8AFB389A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4330-48AE-4C10-9A27-F56F5D10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4E0D-7155-4AD1-9DA6-259A07C5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E5257-0166-432E-8B69-65045E82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B10CE-9D06-494E-99B3-496FAC71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1EAF9-2A1B-40FE-9852-8F4BDCD3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BA0D3-7B59-4F2F-ACEE-577ACC29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54130-B136-474D-B0EA-DE3AE687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096D-4C2A-44DD-B389-47106368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7BE33-7406-4887-A676-A0909DE6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B674B-D9FB-44D0-B14F-A2AB293A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DE164-E118-4AF0-856E-9B06CB3F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C3209-CFF4-4EB4-A311-71CE5BC7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18F4E-DAD1-4768-A4A8-DC49890D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53711-5D11-4454-BE40-A1220995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BA0FD-A5CF-442F-B339-02AC0BFE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BFAB-6DEF-476F-BD12-B94EE487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0FAF-55BE-40DD-86E6-5AC029F4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E576-2574-4B61-8195-AF86A045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548-4B5B-40F7-8DFB-64B71B63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75D7-4C30-43AC-997A-7174BC99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E65-F6C2-4E47-A82B-EE32CB6D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B8B6-E0B6-4D90-BF85-E94A909B43D3}" type="slidenum">
              <a:rPr b="0" lang="ru-RU" sz="1200" spc="-1" strike="noStrike">
                <a:solidFill>
                  <a:srgbClr val="4a56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C5DF-D2C8-4B44-9B12-AE240027D3F8}" type="slidenum">
              <a:rPr b="0" lang="ru-RU" sz="1200" spc="-1" strike="noStrike">
                <a:solidFill>
                  <a:srgbClr val="cce1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7FFF-62B7-454C-A8CE-B34694DFC8C6}" type="slidenum">
              <a:rPr b="0" lang="ru-RU" sz="1200" spc="-1" strike="noStrike">
                <a:solidFill>
                  <a:srgbClr val="4a56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108000" y="1125360"/>
            <a:ext cx="8856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Результаты                                пробного экзамена по математике в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11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 классе, проведённого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30 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марта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20</a:t>
            </a:r>
            <a:r>
              <a:rPr b="1" lang="en-US" sz="5200" spc="-1" strike="noStrike">
                <a:solidFill>
                  <a:srgbClr val="ff0000"/>
                </a:solidFill>
                <a:latin typeface="Monotype Corsiva"/>
              </a:rPr>
              <a:t>2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2 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года (профильный уровень)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547640" y="54936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по общеобразовательным учрежд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26920" y="1557360"/>
          <a:ext cx="7486920" cy="4183200"/>
        </p:xfrm>
        <a:graphic>
          <a:graphicData uri="http://schemas.openxmlformats.org/drawingml/2006/table">
            <a:tbl>
              <a:tblPr/>
              <a:tblGrid>
                <a:gridCol w="632160"/>
                <a:gridCol w="3584520"/>
                <a:gridCol w="1092240"/>
                <a:gridCol w="1085760"/>
                <a:gridCol w="1092240"/>
              </a:tblGrid>
              <a:tr h="83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айон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468360" y="765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второ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по общеобразовательным учрежд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1916280"/>
          <a:ext cx="8589960" cy="3387600"/>
        </p:xfrm>
        <a:graphic>
          <a:graphicData uri="http://schemas.openxmlformats.org/drawingml/2006/table">
            <a:tbl>
              <a:tblPr/>
              <a:tblGrid>
                <a:gridCol w="630360"/>
                <a:gridCol w="2635200"/>
                <a:gridCol w="716040"/>
                <a:gridCol w="701640"/>
                <a:gridCol w="357120"/>
                <a:gridCol w="360360"/>
                <a:gridCol w="698400"/>
                <a:gridCol w="442800"/>
                <a:gridCol w="443160"/>
                <a:gridCol w="717480"/>
                <a:gridCol w="442800"/>
                <a:gridCol w="444600"/>
              </a:tblGrid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 Box 810"/>
          <p:cNvSpPr/>
          <p:nvPr/>
        </p:nvSpPr>
        <p:spPr>
          <a:xfrm>
            <a:off x="900000" y="658656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19"/>
          <p:cNvSpPr/>
          <p:nvPr/>
        </p:nvSpPr>
        <p:spPr>
          <a:xfrm>
            <a:off x="684360" y="5589720"/>
            <a:ext cx="48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20"/>
          <p:cNvSpPr/>
          <p:nvPr/>
        </p:nvSpPr>
        <p:spPr>
          <a:xfrm>
            <a:off x="971640" y="5661000"/>
            <a:ext cx="31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не приступ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 – выполнили 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353880" y="1298520"/>
          <a:ext cx="8697960" cy="4919760"/>
        </p:xfrm>
        <a:graphic>
          <a:graphicData uri="http://schemas.openxmlformats.org/drawingml/2006/table">
            <a:tbl>
              <a:tblPr/>
              <a:tblGrid>
                <a:gridCol w="471600"/>
                <a:gridCol w="2033640"/>
                <a:gridCol w="604800"/>
                <a:gridCol w="573120"/>
                <a:gridCol w="334800"/>
                <a:gridCol w="574920"/>
                <a:gridCol w="334800"/>
                <a:gridCol w="335160"/>
                <a:gridCol w="568080"/>
                <a:gridCol w="370080"/>
                <a:gridCol w="573120"/>
                <a:gridCol w="573120"/>
                <a:gridCol w="574560"/>
                <a:gridCol w="441360"/>
                <a:gridCol w="334800"/>
              </a:tblGrid>
              <a:tr h="822240"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Rectangle 525"/>
          <p:cNvSpPr/>
          <p:nvPr/>
        </p:nvSpPr>
        <p:spPr>
          <a:xfrm>
            <a:off x="360360" y="476280"/>
            <a:ext cx="842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второ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по общеобразовательным учрежд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79280" y="1052640"/>
            <a:ext cx="878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В пробном экзамене                   по математике приняли участие </a:t>
            </a: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1</a:t>
            </a: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3</a:t>
            </a: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 человек                      из </a:t>
            </a: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6</a:t>
            </a: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 общеобразовательных учреждени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755640" y="907920"/>
            <a:ext cx="775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Количество баллов, набранных учащимися, распределилось следующим образ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8360" y="2276640"/>
          <a:ext cx="8229600" cy="4103640"/>
        </p:xfrm>
        <a:graphic>
          <a:graphicData uri="http://schemas.openxmlformats.org/drawingml/2006/table">
            <a:tbl>
              <a:tblPr/>
              <a:tblGrid>
                <a:gridCol w="4336920"/>
                <a:gridCol w="3892680"/>
              </a:tblGrid>
              <a:tr h="158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0 до 5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 ученик</a:t>
                      </a:r>
                      <a:r>
                        <a:rPr b="1" lang="tt-RU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(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6 до 12 балл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учеников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)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ше 12 балл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ученика (31%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99"/>
          <p:cNvSpPr/>
          <p:nvPr/>
        </p:nvSpPr>
        <p:spPr>
          <a:xfrm>
            <a:off x="684360" y="692280"/>
            <a:ext cx="774036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Результаты экзамена по математ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по общеобразовательным учреждения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2133720"/>
          <a:ext cx="8713800" cy="2722320"/>
        </p:xfrm>
        <a:graphic>
          <a:graphicData uri="http://schemas.openxmlformats.org/drawingml/2006/table">
            <a:tbl>
              <a:tblPr/>
              <a:tblGrid>
                <a:gridCol w="649080"/>
                <a:gridCol w="5176800"/>
                <a:gridCol w="2887920"/>
              </a:tblGrid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образовательного учре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ервичны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оргузин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Верхнеуслон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1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Верхнеуслонская гимназ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Октябрь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1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урал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Макул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556"/>
          <p:cNvSpPr/>
          <p:nvPr/>
        </p:nvSpPr>
        <p:spPr>
          <a:xfrm>
            <a:off x="2195640" y="5805360"/>
            <a:ext cx="52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редний первичный бал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о району – 9</a:t>
            </a:r>
            <a:r>
              <a:rPr b="1" lang="tt-RU" sz="2000" spc="-1" strike="noStrike">
                <a:solidFill>
                  <a:srgbClr val="000000"/>
                </a:solidFill>
                <a:latin typeface="Times New Roman"/>
              </a:rPr>
              <a:t>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-1985040" y="692280"/>
            <a:ext cx="130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Количество баллов, набранных учащимися в разрезе шк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8000" y="1557360"/>
          <a:ext cx="8785080" cy="3754440"/>
        </p:xfrm>
        <a:graphic>
          <a:graphicData uri="http://schemas.openxmlformats.org/drawingml/2006/table">
            <a:tbl>
              <a:tblPr/>
              <a:tblGrid>
                <a:gridCol w="2733480"/>
                <a:gridCol w="1247760"/>
                <a:gridCol w="454320"/>
                <a:gridCol w="422280"/>
                <a:gridCol w="368280"/>
                <a:gridCol w="409320"/>
                <a:gridCol w="336600"/>
                <a:gridCol w="414360"/>
                <a:gridCol w="308160"/>
                <a:gridCol w="433440"/>
                <a:gridCol w="371160"/>
                <a:gridCol w="414360"/>
                <a:gridCol w="436680"/>
                <a:gridCol w="434880"/>
              </a:tblGrid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того по район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468360" y="1628640"/>
          <a:ext cx="8423280" cy="4310280"/>
        </p:xfrm>
        <a:graphic>
          <a:graphicData uri="http://schemas.openxmlformats.org/drawingml/2006/table">
            <a:tbl>
              <a:tblPr/>
              <a:tblGrid>
                <a:gridCol w="353880"/>
                <a:gridCol w="3321000"/>
                <a:gridCol w="1589400"/>
                <a:gridCol w="1422360"/>
                <a:gridCol w="1736640"/>
              </a:tblGrid>
              <a:tr h="99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еодолел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не преодолели пор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Верхнеуслон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Верхнеуслонская гимназия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Макулов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Коргузин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Куралов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Октябрь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Rectangle 305"/>
          <p:cNvSpPr/>
          <p:nvPr/>
        </p:nvSpPr>
        <p:spPr>
          <a:xfrm>
            <a:off x="-1352160" y="765000"/>
            <a:ext cx="1191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Monotype Corsiva"/>
              </a:rPr>
              <a:t>Статистика в разрезе общеобразовательных учреж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79280" y="907920"/>
          <a:ext cx="8713800" cy="5819760"/>
        </p:xfrm>
        <a:graphic>
          <a:graphicData uri="http://schemas.openxmlformats.org/drawingml/2006/table">
            <a:tbl>
              <a:tblPr/>
              <a:tblGrid>
                <a:gridCol w="970200"/>
                <a:gridCol w="5167080"/>
                <a:gridCol w="722520"/>
                <a:gridCol w="1131840"/>
                <a:gridCol w="722160"/>
              </a:tblGrid>
              <a:tr h="476280"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проверяем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решать уравнения и неравен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строить и исследовать простейшие математические мо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действия с геометрическими фигурами, координатами и векто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вычисления и пре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действия с геометрическими фигурами, координатами и векто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действия с функц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использовать приобретенные знания и умения в практической деятельности и повседневной жизни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строить и исследовать простейшие математические мо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93"/>
          <p:cNvSpPr/>
          <p:nvPr/>
        </p:nvSpPr>
        <p:spPr>
          <a:xfrm>
            <a:off x="-33480" y="259560"/>
            <a:ext cx="92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Сравнительная информация по зада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-1409400" y="907920"/>
            <a:ext cx="120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08000" y="1700280"/>
          <a:ext cx="8493120" cy="2754360"/>
        </p:xfrm>
        <a:graphic>
          <a:graphicData uri="http://schemas.openxmlformats.org/drawingml/2006/table">
            <a:tbl>
              <a:tblPr/>
              <a:tblGrid>
                <a:gridCol w="426960"/>
                <a:gridCol w="2452680"/>
                <a:gridCol w="596880"/>
                <a:gridCol w="736560"/>
                <a:gridCol w="736560"/>
                <a:gridCol w="735120"/>
                <a:gridCol w="736560"/>
                <a:gridCol w="736560"/>
                <a:gridCol w="596880"/>
                <a:gridCol w="738360"/>
              </a:tblGrid>
              <a:tr h="48780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район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468360" y="1844640"/>
          <a:ext cx="8466120" cy="3989520"/>
        </p:xfrm>
        <a:graphic>
          <a:graphicData uri="http://schemas.openxmlformats.org/drawingml/2006/table">
            <a:tbl>
              <a:tblPr/>
              <a:tblGrid>
                <a:gridCol w="936720"/>
                <a:gridCol w="4997160"/>
                <a:gridCol w="698760"/>
                <a:gridCol w="1135080"/>
                <a:gridCol w="698400"/>
              </a:tblGrid>
              <a:tr h="1178280"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проверяемые треб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действия с функц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использовать приобретенные знания и умения в практической деятельности и повседневной жи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действия с функц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285"/>
          <p:cNvSpPr/>
          <p:nvPr/>
        </p:nvSpPr>
        <p:spPr>
          <a:xfrm>
            <a:off x="138600" y="836640"/>
            <a:ext cx="92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Сравнительная информация по зада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4:21:33Z</dcterms:created>
  <dc:creator>Елена</dc:creator>
  <dc:description/>
  <dc:language>en-US</dc:language>
  <cp:lastModifiedBy>Нина Хайруллина</cp:lastModifiedBy>
  <dcterms:modified xsi:type="dcterms:W3CDTF">2022-04-13T13:48:00Z</dcterms:modified>
  <cp:revision>176</cp:revision>
  <dc:subject/>
  <dc:title>Этапы компьютерного моделирования</dc:title>
</cp:coreProperties>
</file>